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6D2-D9C5-4627-923C-63544160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9A8-894F-4EFD-88EA-1861C610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8EC-3176-4795-A0EB-C27D2B40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40A-6451-4B44-9C27-6B438625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5F7-DC72-4B4C-9F24-8024E902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B5C-789A-4CB3-854A-9D8EEA18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B9E-FC31-48E2-B195-9B360481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1D9-06B3-4E89-B465-40AE34C9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CC1-44C1-4B5E-89A5-98F8029C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9F5-B4DA-4BCA-9782-08F34119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6EC-7092-4458-8EB0-D5116AA3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B7D-3BF2-468A-898C-185787A0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98EF-0419-4908-B4A4-E42D6C84B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57400" y="45716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ane du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rianna je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laine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533520" y="685800"/>
            <a:ext cx="4190760" cy="2890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Century Gothic"/>
              </a:rPr>
              <a:t>step-by-step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way-finding desig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Problems - Out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cc00"/>
                </a:solidFill>
                <a:latin typeface="Century Gothic"/>
              </a:rPr>
              <a:t>Three modes of transport</a:t>
            </a:r>
            <a:r>
              <a:rPr b="0" i="1" lang="en-US" sz="2200" spc="-1" strike="noStrike">
                <a:solidFill>
                  <a:srgbClr val="000000"/>
                </a:solidFill>
                <a:latin typeface="Century Gothic"/>
              </a:rPr>
              <a:t> -- MARTA, on foot, &amp; 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In Gene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appropriate direction g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If they DID exi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multi-ling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grap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consistent or properly asso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in logical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catered to user group (ie, cars are directed to front of hospital, not park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Loc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ystem of signs and maps (placement, orient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ll modes of transpor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o and from the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Direction-Giv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cript for all current direction g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Signs themselves</a:t>
            </a:r>
            <a:r>
              <a:rPr b="0" lang="en-US" sz="2200" spc="-1" strike="noStrike">
                <a:solidFill>
                  <a:srgbClr val="009999"/>
                </a:solidFill>
                <a:latin typeface="Century Gothic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(one sign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onsist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rap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ulti-ling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Out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525780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4952880"/>
            <a:ext cx="2469960" cy="10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05720" y="5105520"/>
            <a:ext cx="1649160" cy="109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9400" y="571500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5867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4724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5105520"/>
            <a:ext cx="18432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29600" y="5105520"/>
            <a:ext cx="18432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5105520"/>
            <a:ext cx="2590920" cy="1217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Problem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Current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ke use of landmarks: colored umbr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mall size makes it easier to maneu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AJO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New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nnection between old and new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ck of knowledge for return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724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Place to Place Direction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terface could be layered by complexity (viewing options based on cognitive ma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hortest path algorithm i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 as a storyboard if unable t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Physical Interactiv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aper/plastic map or mock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otentially lay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ser controls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Map form of user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uld be printed from Place to Plac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lor coordination or thematic element between hospital and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533520" y="685800"/>
            <a:ext cx="792468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entury Gothic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00:15Z</dcterms:created>
  <dc:creator>Marianna Jewell</dc:creator>
  <dc:description/>
  <dc:language>en-US</dc:language>
  <cp:lastModifiedBy>Diane Dutcher</cp:lastModifiedBy>
  <dcterms:modified xsi:type="dcterms:W3CDTF">2007-10-25T02:42:57Z</dcterms:modified>
  <cp:revision>10</cp:revision>
  <dc:subject/>
  <dc:title>Step-by-Step a way-finding design team</dc:title>
</cp:coreProperties>
</file>